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5439EF-77A6-4BED-B236-76A80EF17C4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358383-55A7-41F1-9832-FCC952788EF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A7C172-DA45-4C68-A63E-03CC065EE19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81E938-C0AA-4F2B-A2B6-EF48F9ADD85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D2AA6D-091D-4A7D-B0B0-FE87D1ED86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326A3D-CB28-4D39-A2DC-AFE6877D4CB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66DDA4-5A22-46B1-B9B4-443FEA30449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EC8-F119-445F-8483-B7F61B87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513-0221-4501-B46C-CF12C54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1EC-D23D-4CE9-8859-F54DE481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83F-96F3-420F-AB7A-0A22BD09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10E8-B729-4BCD-BB82-ACE481A8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620-30BE-4494-BC93-B5221B8C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6DC-F613-4A7C-927C-EB7A10E6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A7C-95FD-4BD8-A5E3-13BA07E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B77-4195-4984-93CC-70C6D49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A13D-9950-4AC4-9E4F-DD2BCF91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A8B6-B8CF-453D-B7AB-74B822A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0AF-B95F-483B-A250-3D428F2D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865-6003-45EC-BE57-02F975CB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E12-668E-4A16-BF2C-85D9D623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32D3-5BE8-4C9F-8F27-F46BB94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7C9E-1C1C-4581-A32D-E897E578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528C-9D9D-4159-9082-97A6A57B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EA0-79D3-4438-9C50-F9B116E7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E54-C4BB-4500-866E-5F70F277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CCB-FFA7-4B1F-AA97-6F17A90A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25D-4C7B-4A54-B769-8C61CA4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95A-DEAA-460C-A6D8-F2428F9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550-7378-4C30-9409-ECA05AB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0E2-355C-48A8-AB97-3237B3A1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E19-08A2-45EC-8C91-04D35DD00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4C59-F2A9-4B82-9DE4-119F3A4A2AB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172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75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77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179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180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82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6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94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96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198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0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8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2" name="AutoShape 37"/>
          <p:cNvCxnSpPr>
            <a:endCxn id="211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23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29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34" name="Straight Arrow Connector 13"/>
          <p:cNvCxnSpPr>
            <a:stCxn id="231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5" name="Straight Arrow Connector 14"/>
          <p:cNvCxnSpPr>
            <a:stCxn id="230" idx="4"/>
            <a:endCxn id="233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36" name="Straight Arrow Connector 12"/>
          <p:cNvCxnSpPr>
            <a:stCxn id="231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37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fe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6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47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48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52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55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ow to fast check whether the URL is new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60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 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 (hosts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rc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7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278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91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292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293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4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6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3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0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1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ttangolo 1"/>
          <p:cNvSpPr/>
          <p:nvPr/>
        </p:nvSpPr>
        <p:spPr>
          <a:xfrm>
            <a:off x="139680" y="1733400"/>
            <a:ext cx="34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per host is open at a time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2720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nage </a:t>
            </a:r>
            <a:r>
              <a:rPr b="1" lang="en-US" sz="2400" spc="-1" strike="noStrike">
                <a:solidFill>
                  <a:srgbClr val="333399"/>
                </a:solidFill>
                <a:latin typeface="Lucida Sans"/>
              </a:rPr>
              <a:t>prioritiz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ication specific) between 1 and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ends URL to corresponding queue, according to priorit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26" name="Gruppo 4"/>
          <p:cNvGrpSpPr/>
          <p:nvPr/>
        </p:nvGrpSpPr>
        <p:grpSpPr>
          <a:xfrm>
            <a:off x="981000" y="3106800"/>
            <a:ext cx="7182000" cy="3495600"/>
            <a:chOff x="981000" y="3106800"/>
            <a:chExt cx="7182000" cy="3495600"/>
          </a:xfrm>
        </p:grpSpPr>
        <p:sp>
          <p:nvSpPr>
            <p:cNvPr id="327" name="Text Box 5"/>
            <p:cNvSpPr/>
            <p:nvPr/>
          </p:nvSpPr>
          <p:spPr>
            <a:xfrm>
              <a:off x="2952000" y="3106800"/>
              <a:ext cx="322452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riorit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assigns to a queue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981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 flipH="1">
              <a:off x="981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H="1">
              <a:off x="981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 flipH="1">
              <a:off x="981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 flipH="1">
              <a:off x="981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981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 flipV="1">
              <a:off x="1567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5" name="Line 19"/>
            <p:cNvSpPr/>
            <p:nvPr/>
          </p:nvSpPr>
          <p:spPr>
            <a:xfrm>
              <a:off x="200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H="1">
              <a:off x="200700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7" name="Line 21"/>
            <p:cNvSpPr/>
            <p:nvPr/>
          </p:nvSpPr>
          <p:spPr>
            <a:xfrm flipH="1">
              <a:off x="200700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8" name="Line 22"/>
            <p:cNvSpPr/>
            <p:nvPr/>
          </p:nvSpPr>
          <p:spPr>
            <a:xfrm flipH="1">
              <a:off x="200700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Line 23"/>
            <p:cNvSpPr/>
            <p:nvPr/>
          </p:nvSpPr>
          <p:spPr>
            <a:xfrm flipH="1">
              <a:off x="200700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>
              <a:off x="200700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1" name="Line 25"/>
            <p:cNvSpPr/>
            <p:nvPr/>
          </p:nvSpPr>
          <p:spPr>
            <a:xfrm flipV="1">
              <a:off x="259308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2" name="Line 26"/>
            <p:cNvSpPr/>
            <p:nvPr/>
          </p:nvSpPr>
          <p:spPr>
            <a:xfrm>
              <a:off x="6550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3" name="Line 27"/>
            <p:cNvSpPr/>
            <p:nvPr/>
          </p:nvSpPr>
          <p:spPr>
            <a:xfrm flipH="1">
              <a:off x="6550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4" name="Line 28"/>
            <p:cNvSpPr/>
            <p:nvPr/>
          </p:nvSpPr>
          <p:spPr>
            <a:xfrm flipH="1">
              <a:off x="6550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5" name="Line 29"/>
            <p:cNvSpPr/>
            <p:nvPr/>
          </p:nvSpPr>
          <p:spPr>
            <a:xfrm flipH="1">
              <a:off x="6550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6" name="Line 30"/>
            <p:cNvSpPr/>
            <p:nvPr/>
          </p:nvSpPr>
          <p:spPr>
            <a:xfrm flipH="1">
              <a:off x="6550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Line 31"/>
            <p:cNvSpPr/>
            <p:nvPr/>
          </p:nvSpPr>
          <p:spPr>
            <a:xfrm>
              <a:off x="6550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32"/>
            <p:cNvSpPr/>
            <p:nvPr/>
          </p:nvSpPr>
          <p:spPr>
            <a:xfrm flipV="1">
              <a:off x="7137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757692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34"/>
            <p:cNvSpPr/>
            <p:nvPr/>
          </p:nvSpPr>
          <p:spPr>
            <a:xfrm flipH="1">
              <a:off x="7576920" y="487044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35"/>
            <p:cNvSpPr/>
            <p:nvPr/>
          </p:nvSpPr>
          <p:spPr>
            <a:xfrm flipH="1">
              <a:off x="7576920" y="44467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 flipH="1">
              <a:off x="7576920" y="52945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37"/>
            <p:cNvSpPr/>
            <p:nvPr/>
          </p:nvSpPr>
          <p:spPr>
            <a:xfrm flipH="1">
              <a:off x="7576920" y="56124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38"/>
            <p:cNvSpPr/>
            <p:nvPr/>
          </p:nvSpPr>
          <p:spPr>
            <a:xfrm>
              <a:off x="7576920" y="407592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 flipV="1">
              <a:off x="8163000" y="4075920"/>
              <a:ext cx="0" cy="15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31060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Oval 41"/>
            <p:cNvSpPr/>
            <p:nvPr/>
          </p:nvSpPr>
          <p:spPr>
            <a:xfrm>
              <a:off x="369252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>
              <a:off x="442548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515844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Oval 44"/>
            <p:cNvSpPr/>
            <p:nvPr/>
          </p:nvSpPr>
          <p:spPr>
            <a:xfrm>
              <a:off x="5817960" y="471168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1072800" y="365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7733880" y="3650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48"/>
            <p:cNvSpPr/>
            <p:nvPr/>
          </p:nvSpPr>
          <p:spPr>
            <a:xfrm>
              <a:off x="3067920" y="6072120"/>
              <a:ext cx="30092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Routing to Back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64" name="AutoShape 50"/>
            <p:cNvCxnSpPr>
              <a:stCxn id="327" idx="2"/>
              <a:endCxn id="333" idx="0"/>
            </p:cNvCxnSpPr>
            <p:nvPr/>
          </p:nvCxnSpPr>
          <p:spPr>
            <a:xfrm flipH="1">
              <a:off x="1566360" y="3968280"/>
              <a:ext cx="2997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51"/>
            <p:cNvCxnSpPr>
              <a:stCxn id="327" idx="2"/>
              <a:endCxn id="340" idx="0"/>
            </p:cNvCxnSpPr>
            <p:nvPr/>
          </p:nvCxnSpPr>
          <p:spPr>
            <a:xfrm flipH="1">
              <a:off x="2592360" y="3968280"/>
              <a:ext cx="197172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AutoShape 52"/>
            <p:cNvCxnSpPr>
              <a:stCxn id="327" idx="2"/>
              <a:endCxn id="347" idx="0"/>
            </p:cNvCxnSpPr>
            <p:nvPr/>
          </p:nvCxnSpPr>
          <p:spPr>
            <a:xfrm>
              <a:off x="4564080" y="3968280"/>
              <a:ext cx="198684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53"/>
            <p:cNvCxnSpPr>
              <a:stCxn id="327" idx="2"/>
              <a:endCxn id="354" idx="0"/>
            </p:cNvCxnSpPr>
            <p:nvPr/>
          </p:nvCxnSpPr>
          <p:spPr>
            <a:xfrm>
              <a:off x="4564440" y="3968280"/>
              <a:ext cx="3013200" cy="10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54"/>
            <p:cNvCxnSpPr>
              <a:stCxn id="332" idx="0"/>
              <a:endCxn id="363" idx="0"/>
            </p:cNvCxnSpPr>
            <p:nvPr/>
          </p:nvCxnSpPr>
          <p:spPr>
            <a:xfrm>
              <a:off x="1567080" y="5612400"/>
              <a:ext cx="3006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56"/>
            <p:cNvCxnSpPr>
              <a:stCxn id="341" idx="0"/>
              <a:endCxn id="363" idx="0"/>
            </p:cNvCxnSpPr>
            <p:nvPr/>
          </p:nvCxnSpPr>
          <p:spPr>
            <a:xfrm>
              <a:off x="2593080" y="5612400"/>
              <a:ext cx="198000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57"/>
            <p:cNvCxnSpPr>
              <a:stCxn id="342" idx="0"/>
              <a:endCxn id="363" idx="0"/>
            </p:cNvCxnSpPr>
            <p:nvPr/>
          </p:nvCxnSpPr>
          <p:spPr>
            <a:xfrm flipH="1">
              <a:off x="4572360" y="5612400"/>
              <a:ext cx="1978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58"/>
            <p:cNvCxnSpPr>
              <a:stCxn id="353" idx="0"/>
              <a:endCxn id="363" idx="0"/>
            </p:cNvCxnSpPr>
            <p:nvPr/>
          </p:nvCxnSpPr>
          <p:spPr>
            <a:xfrm flipH="1">
              <a:off x="4572360" y="5612400"/>
              <a:ext cx="3004560" cy="4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2" name="Line 59"/>
            <p:cNvSpPr/>
            <p:nvPr/>
          </p:nvSpPr>
          <p:spPr>
            <a:xfrm>
              <a:off x="4564440" y="6443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482480"/>
            <a:ext cx="80629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Back queu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force </a:t>
            </a:r>
            <a:r>
              <a:rPr b="1" lang="en-US" sz="24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6" name="Gruppo 4"/>
          <p:cNvGrpSpPr/>
          <p:nvPr/>
        </p:nvGrpSpPr>
        <p:grpSpPr>
          <a:xfrm>
            <a:off x="1402920" y="2775240"/>
            <a:ext cx="6193440" cy="4038480"/>
            <a:chOff x="1402920" y="2775240"/>
            <a:chExt cx="6193440" cy="4038480"/>
          </a:xfrm>
        </p:grpSpPr>
        <p:sp>
          <p:nvSpPr>
            <p:cNvPr id="377" name="Rectangle 5"/>
            <p:cNvSpPr/>
            <p:nvPr/>
          </p:nvSpPr>
          <p:spPr>
            <a:xfrm>
              <a:off x="1590480" y="2775240"/>
              <a:ext cx="54583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reques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Select a </a:t>
              </a: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front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queue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0c0"/>
                  </a:solidFill>
                  <a:latin typeface="Lucida Sans"/>
                  <a:ea typeface="Arial Unicode MS"/>
                </a:rPr>
                <a:t>randomly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, biasing towards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higher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Rectangle 6"/>
            <p:cNvSpPr/>
            <p:nvPr/>
          </p:nvSpPr>
          <p:spPr>
            <a:xfrm>
              <a:off x="2667600" y="6110280"/>
              <a:ext cx="281520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 sel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ick min, parse and push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4275360" y="657936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14032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H="1">
              <a:off x="140292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 flipH="1">
              <a:off x="140292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>
              <a:off x="140292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 flipH="1">
              <a:off x="140292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140328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 flipV="1">
              <a:off x="188604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22485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H="1">
              <a:off x="2248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 flipH="1">
              <a:off x="224820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>
              <a:off x="224820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 flipH="1">
              <a:off x="2248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224856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 flipV="1">
              <a:off x="27316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59925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 flipH="1">
              <a:off x="5992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 flipH="1">
              <a:off x="599220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 flipH="1">
              <a:off x="599220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 flipH="1">
              <a:off x="5992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599256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V="1">
              <a:off x="64756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683784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 flipH="1">
              <a:off x="683748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Line 31"/>
            <p:cNvSpPr/>
            <p:nvPr/>
          </p:nvSpPr>
          <p:spPr>
            <a:xfrm flipH="1">
              <a:off x="683748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 flipH="1">
              <a:off x="683748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Line 33"/>
            <p:cNvSpPr/>
            <p:nvPr/>
          </p:nvSpPr>
          <p:spPr>
            <a:xfrm flipH="1">
              <a:off x="683748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Line 34"/>
            <p:cNvSpPr/>
            <p:nvPr/>
          </p:nvSpPr>
          <p:spPr>
            <a:xfrm>
              <a:off x="683784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Line 35"/>
            <p:cNvSpPr/>
            <p:nvPr/>
          </p:nvSpPr>
          <p:spPr>
            <a:xfrm flipV="1">
              <a:off x="73209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315432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Oval 37"/>
            <p:cNvSpPr/>
            <p:nvPr/>
          </p:nvSpPr>
          <p:spPr>
            <a:xfrm>
              <a:off x="363744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Oval 38"/>
            <p:cNvSpPr/>
            <p:nvPr/>
          </p:nvSpPr>
          <p:spPr>
            <a:xfrm>
              <a:off x="424116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Oval 39"/>
            <p:cNvSpPr/>
            <p:nvPr/>
          </p:nvSpPr>
          <p:spPr>
            <a:xfrm>
              <a:off x="484524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Oval 40"/>
            <p:cNvSpPr/>
            <p:nvPr/>
          </p:nvSpPr>
          <p:spPr>
            <a:xfrm>
              <a:off x="538848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41"/>
            <p:cNvSpPr/>
            <p:nvPr/>
          </p:nvSpPr>
          <p:spPr>
            <a:xfrm>
              <a:off x="1421280" y="3600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42"/>
            <p:cNvSpPr/>
            <p:nvPr/>
          </p:nvSpPr>
          <p:spPr>
            <a:xfrm>
              <a:off x="6903720" y="353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15" name="AutoShape 43"/>
            <p:cNvCxnSpPr>
              <a:endCxn id="385" idx="0"/>
            </p:cNvCxnSpPr>
            <p:nvPr/>
          </p:nvCxnSpPr>
          <p:spPr>
            <a:xfrm flipH="1">
              <a:off x="1885680" y="3477960"/>
              <a:ext cx="229536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44"/>
            <p:cNvCxnSpPr>
              <a:endCxn id="392" idx="0"/>
            </p:cNvCxnSpPr>
            <p:nvPr/>
          </p:nvCxnSpPr>
          <p:spPr>
            <a:xfrm flipH="1">
              <a:off x="2730960" y="3477960"/>
              <a:ext cx="144972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45"/>
            <p:cNvCxnSpPr>
              <a:endCxn id="399" idx="0"/>
            </p:cNvCxnSpPr>
            <p:nvPr/>
          </p:nvCxnSpPr>
          <p:spPr>
            <a:xfrm>
              <a:off x="4181040" y="3477960"/>
              <a:ext cx="181224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AutoShape 46"/>
            <p:cNvCxnSpPr>
              <a:endCxn id="406" idx="0"/>
            </p:cNvCxnSpPr>
            <p:nvPr/>
          </p:nvCxnSpPr>
          <p:spPr>
            <a:xfrm>
              <a:off x="4181040" y="3477960"/>
              <a:ext cx="265716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AutoShape 47"/>
            <p:cNvCxnSpPr>
              <a:stCxn id="384" idx="0"/>
            </p:cNvCxnSpPr>
            <p:nvPr/>
          </p:nvCxnSpPr>
          <p:spPr>
            <a:xfrm>
              <a:off x="1885680" y="5699520"/>
              <a:ext cx="4776120" cy="41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0" name="AutoShape 48"/>
            <p:cNvCxnSpPr>
              <a:stCxn id="393" idx="0"/>
              <a:endCxn id="421" idx="0"/>
            </p:cNvCxnSpPr>
            <p:nvPr/>
          </p:nvCxnSpPr>
          <p:spPr>
            <a:xfrm>
              <a:off x="2731680" y="5699520"/>
              <a:ext cx="406656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AutoShape 49"/>
            <p:cNvCxnSpPr>
              <a:stCxn id="394" idx="0"/>
              <a:endCxn id="421" idx="0"/>
            </p:cNvCxnSpPr>
            <p:nvPr/>
          </p:nvCxnSpPr>
          <p:spPr>
            <a:xfrm>
              <a:off x="5992560" y="5699520"/>
              <a:ext cx="805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3" name="AutoShape 50"/>
            <p:cNvCxnSpPr>
              <a:stCxn id="405" idx="0"/>
              <a:endCxn id="421" idx="0"/>
            </p:cNvCxnSpPr>
            <p:nvPr/>
          </p:nvCxnSpPr>
          <p:spPr>
            <a:xfrm flipH="1">
              <a:off x="6796800" y="5699520"/>
              <a:ext cx="40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1" name="AutoShape 51"/>
            <p:cNvSpPr/>
            <p:nvPr/>
          </p:nvSpPr>
          <p:spPr>
            <a:xfrm>
              <a:off x="6026400" y="5992920"/>
              <a:ext cx="1569960" cy="731520"/>
            </a:xfrm>
            <a:prstGeom prst="triangle">
              <a:avLst>
                <a:gd name="adj" fmla="val 49097"/>
              </a:avLst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  <a:ea typeface="Arial Unicode MS"/>
                </a:rPr>
                <a:t>min-Hea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53"/>
            <p:cNvSpPr/>
            <p:nvPr/>
          </p:nvSpPr>
          <p:spPr>
            <a:xfrm flipH="1">
              <a:off x="5482800" y="6285960"/>
              <a:ext cx="9925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threa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rawler seeks a URL to crawl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and then removes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gets emp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 until q gets not empt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URL and add it to the min-heap with priority = waiting tim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B = 3 x K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99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02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03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4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7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09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AutoShape 16"/>
            <p:cNvCxnSpPr>
              <a:endCxn id="107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1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12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6" name="AutoShape 23"/>
          <p:cNvCxnSpPr>
            <a:stCxn id="107" idx="3"/>
            <a:endCxn id="112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9" name="AutoShape 28"/>
          <p:cNvCxnSpPr>
            <a:endCxn id="117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0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23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25" name="AutoShape 34"/>
          <p:cNvCxnSpPr>
            <a:endCxn id="126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cxnSp>
        <p:nvCxnSpPr>
          <p:cNvPr id="127" name="AutoShape 38"/>
          <p:cNvCxnSpPr>
            <a:endCxn id="123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med" type="triangle" w="med"/>
          </a:ln>
        </p:spPr>
      </p:cxnSp>
      <p:grpSp>
        <p:nvGrpSpPr>
          <p:cNvPr id="128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29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30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26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1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2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36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39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55" name="AutoShape 28"/>
          <p:cNvCxnSpPr>
            <a:stCxn id="136" idx="5"/>
            <a:endCxn id="154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8"/>
          <p:cNvCxnSpPr>
            <a:stCxn id="154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graph whose size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ctually the web is infinite… Calendar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dynamic graph wit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2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54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the web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 changes (insert, delete) &gt;&gt; trillion 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llion 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ny more if we consider also the word positions in every document where it occu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3" descr="bowtie"/>
          <p:cNvPicPr/>
          <p:nvPr/>
        </p:nvPicPr>
        <p:blipFill>
          <a:blip r:embed="rId1"/>
          <a:stretch/>
        </p:blipFill>
        <p:spPr>
          <a:xfrm>
            <a:off x="5716440" y="4149720"/>
            <a:ext cx="3427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9-09-14T08:08:22Z</dcterms:modified>
  <cp:revision>1247</cp:revision>
  <dc:subject/>
  <dc:title>Web Algorithmics</dc:title>
</cp:coreProperties>
</file>